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0B1-298A-4C81-99A7-42016CA5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B9C-A204-4753-927F-60EC3D8C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CD9-537E-4AD4-B077-8ACE7C5F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B2F-4122-4699-A587-478CB106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89D9-C767-441D-BF02-2077FE4F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DFF0-8854-4A95-A1CD-7C8AF60E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71A-AEAC-4191-8032-C715A06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F6B-0BD3-4B56-AEA8-7F96223E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6EE5-7F35-4082-A338-41ADC8AB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C316-1CCD-4D51-8FDE-49757C07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FA64-E7CC-4DD6-A222-D638BF99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CCD-91BC-44FD-915F-355C1EDD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0EE-1CAE-451B-9DB1-143D266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D6E-5B38-4C7C-B218-677F67F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B3A1-EEA6-4415-8FAC-5FB17A06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FA9C-E7DD-4E4D-A086-01C7ECC8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D311-229E-4735-8B45-48EB94C2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FD38-8F60-425B-92AB-24A198CF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8CF2-9DA7-43CF-A990-E3352417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B6DE-B946-4300-AAE4-84257ECF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05FE-32FA-4BC0-8EA3-DC242804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CC81-17FD-48EA-9C97-8BB99924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71B-2649-41EC-B166-C106B887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CF7E-51FB-4D4A-8A7C-AEDF79FE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69D5-69E0-4C4D-ABB5-BEB7D7C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E21E-18E0-47D2-9BD1-DD338819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3433-9978-47B1-88D8-26DB3AF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745B-4B84-4B3C-9314-B3E35683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C512-E5E7-4866-8D18-B9953282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04B8-E0E9-4226-897F-7FCF4B87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E78D-8FED-4034-82BE-0D9D4557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5A6F-DCAF-4A22-B6AE-5F24F519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A8AD-C0D3-4A42-AC23-7952438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DAF-F61A-4E36-99AD-FFF38691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972F5-2138-468E-8C3A-4FD9FEA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519F-DE62-401C-8DF1-238407D6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37B9-2621-4E62-806F-899BD6A4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37B8-E0AB-4C28-BB85-BBB68D1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510A-5A78-4E06-9300-6070B9C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B1DB-B949-4725-BD78-EB8B0217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CB06-40A7-4EFE-AC70-0F7A359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6FEE-5110-4E6B-8E96-8DECB543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B78B-5E7C-4B2F-99E8-05A8A9C9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64134-C64D-4C63-8A71-BEE266DD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A76-6121-4237-99F7-559E7F5D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3D5B1-D071-4EFB-A1A4-239F1F18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719E7-0AA2-4567-8776-A66E002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7503-41A9-4C53-B2A8-D9188BFF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4FBB-ADB8-4253-A64A-928D5AB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70D9-E68A-4F1A-B2A6-DFE1029D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DB31-741E-4256-A293-A7BEF9CD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3A31A-7D85-4999-8611-31703048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C642-9590-45F4-8A86-DF71D38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D2479-D218-4BFD-B85C-1ECC540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78D3E-FFFF-401E-9D5D-A957FC82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D8F-8433-4C60-8D47-FB83DD07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B860-7008-4AF2-93DA-07BD7A94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48156-BE58-4579-93A6-B142326B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A6097-A09A-4B2B-917D-6752E6B7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62C7E-06B1-4BE9-A3B5-87000DC4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64EE7-5604-4B43-8A84-9CD90B42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EF3B-4153-44BC-9921-9D17BEC0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5C11E-DE1C-4CE6-9A54-18CE933A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BE20-1EFE-4C8F-856E-0095C9C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7387-DC82-47B3-B1AC-F716A38F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DC14-79D7-4A28-A52D-B3D8060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7EC-18CA-4810-BEB3-DAC7C826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09D60-6DCD-494B-A040-7F13E3E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6F11-D08F-4ADD-A7F4-57AE4CA2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5632-E73A-4AF6-8DDF-D6D8D25D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1FE1-045A-434C-B979-4999EDF3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693A-3C0C-4159-8D50-C569ACA7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E37D-E6C5-460E-9767-5FAEF96E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6CCE-026D-4402-9AE6-28E85681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8001B-CEE0-498C-ADB5-CA03E6F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A2E99-5D24-4D5D-8159-6B3BB21F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C71B2-B6C0-4E41-AD35-0A9B7FA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F7B-C04B-475A-AD14-2A8F14C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3420B-FBC5-464A-A54C-1B3F278A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50938-AC0B-4094-8574-82059881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26BC-2BC9-4938-B788-BE23C30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3FA0-0A88-406B-AE15-4E0C5CAF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85FE-3BD3-4AFF-9975-09EE8681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1F1A-9833-48FF-98DE-5758362A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13FB-260C-40DA-A3EF-BE5B403B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0FD1E-DDE9-47B6-99F1-A7498F35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0E63D-C75C-42F4-8C70-CC31F4ED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E8BA1-FCC5-430A-A645-F613428E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918-C65D-4D7C-930E-10BEAF06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6068-2B16-43E6-ADB5-152C9B6F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8650-B82D-4FBF-BA74-B574E14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1A846-4EE5-4CC5-B1C1-090D45B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DEE6A-3A2F-4269-8B7E-7750C62F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B9CF-9EA5-42B8-85FF-3EE0F44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5BE71-1D4B-40B0-9FAC-D10321FD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AE15-D61A-44C7-9FBE-305AAD61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00F-F094-4BFE-8798-85DF5C586A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1C74-5740-41D7-98C3-02DA86D5C8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CC7E-CDEB-4624-9E48-AE7B190BC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A800-BFBC-4D51-9CA6-5C3D382A2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3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CEA7-4A30-4034-BFB4-20F205FDCEA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74A-FBDC-4236-9458-86458BCE56C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6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9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D5E0-050E-45C3-8B59-9FAE1040B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1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B9F-2624-46BA-9120-C319E5162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Las Comidas!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: Ryan Heminwa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3657600" y="3946680"/>
            <a:ext cx="2133720" cy="16700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908000" y="4114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91120" y="55627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5715000" y="2438280"/>
            <a:ext cx="2305080" cy="17290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464520" y="4075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eic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523880" y="4800600"/>
            <a:ext cx="2295720" cy="17161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5638680" y="4800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1981080" y="649116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175440" y="64911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an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Almuerz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514600" cy="185724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1664640" y="430380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n bocadi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590560" cy="19051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6480360" y="43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naranj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3429000" y="3809880"/>
            <a:ext cx="2438280" cy="18241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813480" y="55627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na Coca-col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4"/>
          <a:stretch/>
        </p:blipFill>
        <p:spPr>
          <a:xfrm>
            <a:off x="5791320" y="4648320"/>
            <a:ext cx="2590560" cy="18190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6095880" y="640080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5"/>
          <a:stretch/>
        </p:blipFill>
        <p:spPr>
          <a:xfrm>
            <a:off x="990720" y="46483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1600200" y="63244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la cena me gusta com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2361960" cy="1900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1983960" y="426708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438280" cy="19051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6403680" y="426708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5715000" y="45720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6175440" y="63244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guissant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4"/>
          <a:stretch/>
        </p:blipFill>
        <p:spPr>
          <a:xfrm>
            <a:off x="3429000" y="3733920"/>
            <a:ext cx="2362320" cy="19317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581280" y="56386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Jugo de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5"/>
          <a:stretch/>
        </p:blipFill>
        <p:spPr>
          <a:xfrm>
            <a:off x="1219320" y="4800600"/>
            <a:ext cx="2361960" cy="175248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603800" y="64911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5:03Z</dcterms:created>
  <dc:creator>heminwayrya</dc:creator>
  <dc:description/>
  <dc:language>en-US</dc:language>
  <cp:lastModifiedBy>heminwayrya</cp:lastModifiedBy>
  <dcterms:modified xsi:type="dcterms:W3CDTF">2011-04-14T14:48:56Z</dcterms:modified>
  <cp:revision>7</cp:revision>
  <dc:subject/>
  <dc:title>Las Comidas!</dc:title>
</cp:coreProperties>
</file>